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920635-925A-41B2-8674-0E81566F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D973CD-1FDF-46D1-A0F5-CBB2B7D7C822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843078-B2E6-45A8-857A-E81742AFD606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297E51-223D-4AFC-9E60-17FC791EA954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Благотворителен концерт “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Vivo per lei”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Проект част от кампанията “Един живот”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Ротаракт Пловдив –Пълдин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0.10.2015 г.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Основна идея и цел на кампанията “Един живот”: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ътните произшествия и борбата за предотвратяването им е национален проблем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овишаване на транспортната култура на всички участници в движениет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ревенция на пътно-транспортен травматизъм и за изграждане на едно по-толерантно обществ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целта на концерта е набирането на средства, необходими за възстановяване и рехабилитация на потърпевшите от пътни инциденти.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обществена културно-масова проява на новосъздадения клуб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08" name="Картина 8" descr="10981061_1416816228613031_7856246384944443782_o.jpg"/>
          <p:cNvPicPr/>
          <p:nvPr/>
        </p:nvPicPr>
        <p:blipFill>
          <a:blip r:embed="rId1"/>
          <a:stretch/>
        </p:blipFill>
        <p:spPr>
          <a:xfrm>
            <a:off x="838080" y="2971800"/>
            <a:ext cx="79250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4864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Участници в концерта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“Vivo per lei”</a:t>
            </a: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 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23880" y="1219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Трио Сопрано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11" name="Картина 3" descr="10923805_1432579020370085_1935638774199842012_o.jpg"/>
          <p:cNvPicPr/>
          <p:nvPr/>
        </p:nvPicPr>
        <p:blipFill>
          <a:blip r:embed="rId1"/>
          <a:stretch/>
        </p:blipFill>
        <p:spPr>
          <a:xfrm>
            <a:off x="304920" y="1600200"/>
            <a:ext cx="4851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Картина 4" descr="10609462_1432579277036726_3494040838389561264_n.jpg"/>
          <p:cNvPicPr/>
          <p:nvPr/>
        </p:nvPicPr>
        <p:blipFill>
          <a:blip r:embed="rId2"/>
          <a:stretch/>
        </p:blipFill>
        <p:spPr>
          <a:xfrm>
            <a:off x="6477120" y="2438280"/>
            <a:ext cx="2282760" cy="3429000"/>
          </a:xfrm>
          <a:prstGeom prst="rect">
            <a:avLst/>
          </a:prstGeom>
          <a:ln w="0">
            <a:noFill/>
          </a:ln>
        </p:spPr>
      </p:pic>
      <p:pic>
        <p:nvPicPr>
          <p:cNvPr id="513" name="Картина 5" descr="10914746_1432578867036767_4398015572425505790_o.jpg"/>
          <p:cNvPicPr/>
          <p:nvPr/>
        </p:nvPicPr>
        <p:blipFill>
          <a:blip r:embed="rId3"/>
          <a:stretch/>
        </p:blipFill>
        <p:spPr>
          <a:xfrm>
            <a:off x="1981080" y="4343400"/>
            <a:ext cx="430056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Контейнер за съдържание 2"/>
          <p:cNvSpPr/>
          <p:nvPr/>
        </p:nvSpPr>
        <p:spPr>
          <a:xfrm>
            <a:off x="61722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Дует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Well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15" name="Контейнер за съдържание 2"/>
          <p:cNvSpPr/>
          <p:nvPr/>
        </p:nvSpPr>
        <p:spPr>
          <a:xfrm>
            <a:off x="2362320" y="39625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Танцова формация Елик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Arial Narrow"/>
              </a:rPr>
              <a:t>Събитието в снимки /05.04.2015 г. гр. Пловдив,  зала Борис Христов/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Правоъгълник 4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Картина 7" descr="11119502_1074968322518343_5670227967117154393_o.jpg"/>
          <p:cNvPicPr/>
          <p:nvPr/>
        </p:nvPicPr>
        <p:blipFill>
          <a:blip r:embed="rId1"/>
          <a:stretch/>
        </p:blipFill>
        <p:spPr>
          <a:xfrm>
            <a:off x="1790640" y="1125360"/>
            <a:ext cx="5562720" cy="2656080"/>
          </a:xfrm>
          <a:prstGeom prst="rect">
            <a:avLst/>
          </a:prstGeom>
          <a:ln w="0">
            <a:noFill/>
          </a:ln>
        </p:spPr>
      </p:pic>
      <p:pic>
        <p:nvPicPr>
          <p:cNvPr id="519" name="Контейнер за съдържание 5" descr="11154597_1074967635851745_2410459337553038495_o.jpg"/>
          <p:cNvPicPr/>
          <p:nvPr/>
        </p:nvPicPr>
        <p:blipFill>
          <a:blip r:embed="rId2"/>
          <a:stretch/>
        </p:blipFill>
        <p:spPr>
          <a:xfrm>
            <a:off x="181080" y="3979800"/>
            <a:ext cx="4106880" cy="2738520"/>
          </a:xfrm>
          <a:prstGeom prst="rect">
            <a:avLst/>
          </a:prstGeom>
          <a:ln w="0">
            <a:noFill/>
          </a:ln>
        </p:spPr>
      </p:pic>
      <p:pic>
        <p:nvPicPr>
          <p:cNvPr id="520" name="Контейнер за съдържание 6" descr="11101491_1074967639185078_6853637723582453266_o.jpg"/>
          <p:cNvPicPr/>
          <p:nvPr/>
        </p:nvPicPr>
        <p:blipFill>
          <a:blip r:embed="rId3"/>
          <a:stretch/>
        </p:blipFill>
        <p:spPr>
          <a:xfrm>
            <a:off x="4699080" y="398628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Постигнати резултати и равносметка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общо събрана сума от </a:t>
            </a:r>
            <a:r>
              <a:rPr b="0" lang="bg-BG" sz="2000" spc="-1" strike="noStrike">
                <a:solidFill>
                  <a:srgbClr val="001b51"/>
                </a:solidFill>
                <a:latin typeface="Georgia"/>
                <a:ea typeface="Georgia"/>
              </a:rPr>
              <a:t>2805лв.,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с която се покрива част от ежедневната рехабилитацията на Диана Петкова, ротарактор, бивш президент на нашия клуб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онцертът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 “Vivo per lei”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получи високо признание, положителни отзиви, предизвика голям интерес и широко отразяване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ампанията придоби популярност и започнаха да се получават нови покани за подкрепа и разпространение на каузата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23" name="Картина 10" descr="8617_original.jpg"/>
          <p:cNvPicPr/>
          <p:nvPr/>
        </p:nvPicPr>
        <p:blipFill>
          <a:blip r:embed="rId1"/>
          <a:stretch/>
        </p:blipFill>
        <p:spPr>
          <a:xfrm>
            <a:off x="4038480" y="36655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524" name="Картина 14" descr="11261639_682092821897262_679611286086354353_n.jpg"/>
          <p:cNvPicPr/>
          <p:nvPr/>
        </p:nvPicPr>
        <p:blipFill>
          <a:blip r:embed="rId2"/>
          <a:stretch/>
        </p:blipFill>
        <p:spPr>
          <a:xfrm>
            <a:off x="152280" y="3581280"/>
            <a:ext cx="3767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Моля насладете се на малка част от магията “Живея за нея”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Заглавие 1"/>
          <p:cNvSpPr/>
          <p:nvPr/>
        </p:nvSpPr>
        <p:spPr>
          <a:xfrm>
            <a:off x="3429000" y="6095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246c"/>
                </a:solidFill>
                <a:latin typeface="Georgia"/>
                <a:ea typeface="MS PGothic"/>
              </a:rPr>
              <a:t>Благодарим Ви за вниманието!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7" name="PresentationofVivoperleiconcert.mp4" descr=""/>
          <p:cNvPicPr/>
          <p:nvPr/>
        </p:nvPicPr>
        <p:blipFill>
          <a:blip r:embed="rId1"/>
          <a:stretch/>
        </p:blipFill>
        <p:spPr>
          <a:xfrm>
            <a:off x="504720" y="119556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27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5T14:34:06Z</dcterms:modified>
  <cp:revision>662</cp:revision>
  <dc:subject/>
  <dc:title>PowerPoint Presentation</dc:title>
</cp:coreProperties>
</file>